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gif" ContentType="image/gif"/>
  <Override PartName="/ppt/media/image14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D93D-2B17-47EF-A52F-802B195DDF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F6E6-740E-4C5E-80FF-082BB4FB31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аектория космической обсерватории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0360-1EF2-4299-A6CC-3E0A77AA7A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B8AC-D083-4850-BFBA-14E37BEB99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я с космической обсерватори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оступает разнообразна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разные температуры атмосферы Солнца в разных длинах вол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0BED-8C1D-4671-85B5-BAD71B42B5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солнечной активности на биосферу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D70B-67FC-4547-B474-CB3B85C0C8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нные мониторинга солнечной актив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ость солнечного в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ярные с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агнитный индек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солнечного ветра (плотность потока протонов, плотность потока электр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 рентгеновского изл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96B0-F31C-4842-9DDD-E3A67B538F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лияния солнечной актив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лимат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погружена во внешнюю исключительно подвижную атмосферу Солнца и, следовательно, подвергается сильному влиянию «погоды» на Солн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ическая обсерватор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ит 10 лет постоян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активности Солн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85F5-71EE-4707-8029-4F2DD7A848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9D33-9987-4E1C-B224-3187F8B619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декс Вольфа за всю историю наблюдения Сол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69A5-7D05-452C-9B38-14A237A0B4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пят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95E6-C485-434A-B8E8-86FCA9DE8A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вспыш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53C2-3C53-4044-BF8B-102C9C9741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протуберан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FE4E-2019-46AC-BB74-EF72E0009B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11-летнего цикла солнечной активности, после минимума W: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на появляются вдали от экватора Солнца, на широтах примерно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чение цикла зона пятен спускается до 15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максимуме и до 8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ледующем миниму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 на высотах более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новые группы пят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3219-2A37-4BEF-947D-22F08B0047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осмической обсерватор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ботают различные приборы, в том числ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C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C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упает на Землю в режиме реального вре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2F37-F30B-46EA-8529-FFA5ACD6BC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87E-394C-4611-B4EF-27FDD370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C950-E568-4350-A233-ACDE600C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086-2288-4048-90A3-B010AA5D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A50-2DD5-4F93-A9AF-7245ABC1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7ED1-2829-4E4A-8940-2797B5BD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364F-68C3-4E98-9399-33A20BDE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7ED4-84D5-4FA0-8F93-5566DC42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69A1-1DFC-4DB7-ACA8-58D8A355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8C2F-40DB-49B9-9CD5-9F266C6E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94A5-ED94-43D7-B4DD-6FE1CA31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DD72-5CA6-4DE9-81CC-8AC8D998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0EB4-F3D2-4E26-98A9-54B3390D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2E53-91AC-442E-8D7C-A5492471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BFAD-A5B0-468F-B0F7-4FD68158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DC59-C258-4C2D-9902-F0D3CA19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0508-8581-4A73-AEF6-0AF8F250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62CB-530F-4589-A6A5-20EE9C44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CEF37-909F-4C62-87F1-0005E52D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6D24D-FF7B-45E6-AE2A-156BD014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5FE48-8769-4995-BC91-F04C904C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C12AF-EB03-4516-8462-9182D7BB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090F6-B8BB-4900-9123-7291437A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B3B-7059-4F5A-8E42-13E9D35B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CBD2E-66E0-4055-A9CC-27141922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8DC20-2955-49A0-9DAB-1C375DAC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48571-72E9-465A-98D5-C412A383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882FE-9F93-4C46-890C-541EFA81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827E9-D110-4435-ADBA-40F1197E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61E61-5EC9-4366-A932-FCAF1E2B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4EEE4-96E3-411E-8404-631396CB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A2934-AFDD-40FD-BCCC-AD18D4FE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CDF81-7FFB-4825-B40D-07F051EA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1A3DB-2E1D-45F6-84B2-5552B805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67D-4D6B-41BA-9697-6E615663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E7019-0147-4F8F-B0E3-90F1369B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A9101-E140-4FE5-BC6F-BAB8C88A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38450-3036-4310-B19B-AF9D25F1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8D82D-6C2F-4950-8014-8F7CB161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F7222-F33C-4CD0-A336-6F2C8FB5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B6C17-6B1E-4BCB-A045-33BDA05C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5E5C6-9114-447F-81CD-6568814A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D8B40-464A-4A91-9300-331FB522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EED8C-FCC2-499C-8647-5E16640A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7A9-8595-41A4-A206-348F9F71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40E-D359-4547-8523-2C92961A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304E-E793-4AB3-A8B5-CC7CC177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7A9F-C066-475B-9B63-341AC5C7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225-3FFB-4428-A25C-8CDE7773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Полилиния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1AC2-0B76-4C3A-A582-F06931C67D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Группа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51" name="Группа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52" name="Группа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53" name="Полилиния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" name="Группа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5" name="Полилиния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Полилиния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Полилиния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" name="Группа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9" name="Полилиния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0" name="Группа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61" name="Полилиния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2" name="Группа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63" name="Линия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Линия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Линия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Линия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Линия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Линия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Линия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Линия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Линия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Линия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Линия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Линия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Линия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Линия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Линия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Линия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Линия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Линия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Линия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Линия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Линия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Линия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Линия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Линия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Линия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Линия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Линия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Линия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Линия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Линия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Линия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Линия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Линия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Линия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Линия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Полилиния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9" name="Группа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00" name="Овал 52"/>
                          <p:cNvSpPr/>
                          <p:nvPr/>
                        </p:nvSpPr>
                        <p:spPr>
                          <a:xfrm rot="18780000">
                            <a:off x="246240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" name="Овал 53"/>
                          <p:cNvSpPr/>
                          <p:nvPr/>
                        </p:nvSpPr>
                        <p:spPr>
                          <a:xfrm rot="18780000">
                            <a:off x="2376360" y="429840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" name="Овал 54"/>
                          <p:cNvSpPr/>
                          <p:nvPr/>
                        </p:nvSpPr>
                        <p:spPr>
                          <a:xfrm rot="18780000">
                            <a:off x="2256840" y="400176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" name="Овал 55"/>
                          <p:cNvSpPr/>
                          <p:nvPr/>
                        </p:nvSpPr>
                        <p:spPr>
                          <a:xfrm rot="18780000">
                            <a:off x="2164680" y="374292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" name="Овал 56"/>
                          <p:cNvSpPr/>
                          <p:nvPr/>
                        </p:nvSpPr>
                        <p:spPr>
                          <a:xfrm rot="18780000">
                            <a:off x="2063880" y="342612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" name="Овал 57"/>
                          <p:cNvSpPr/>
                          <p:nvPr/>
                        </p:nvSpPr>
                        <p:spPr>
                          <a:xfrm rot="18780000">
                            <a:off x="1975320" y="317196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" name="Овал 58"/>
                          <p:cNvSpPr/>
                          <p:nvPr/>
                        </p:nvSpPr>
                        <p:spPr>
                          <a:xfrm rot="18780000">
                            <a:off x="1850040" y="289116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" name="Овал 59"/>
                          <p:cNvSpPr/>
                          <p:nvPr/>
                        </p:nvSpPr>
                        <p:spPr>
                          <a:xfrm rot="18780000">
                            <a:off x="1733040" y="262872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" name="Овал 60"/>
                          <p:cNvSpPr/>
                          <p:nvPr/>
                        </p:nvSpPr>
                        <p:spPr>
                          <a:xfrm rot="18780000">
                            <a:off x="1599120" y="2369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" name="Овал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" name="Овал 62"/>
                          <p:cNvSpPr/>
                          <p:nvPr/>
                        </p:nvSpPr>
                        <p:spPr>
                          <a:xfrm rot="18734400">
                            <a:off x="1402200" y="181836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" name="Овал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2" name="Линия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Линия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Линия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Линия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Линия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Линия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Линия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Линия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Линия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Линия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Линия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Линия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Линия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Линия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Линия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Линия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Линия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Линия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Линия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Линия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Линия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Линия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Линия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Линия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Линия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Линия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Линия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Линия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Линия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Линия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Линия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Линия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Линия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Линия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Линия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Линия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48" name="Группа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49" name="Линия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Линия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" name="Группа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52" name="Линия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Полилиния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Линия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Линия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Линия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Линия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Линия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Линия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Линия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1" name="Группа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62" name="Полилиния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Полилиния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Прямоуг.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Прямоуг.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Прямоуг. 118"/>
              <p:cNvSpPr/>
              <p:nvPr/>
            </p:nvSpPr>
            <p:spPr>
              <a:xfrm rot="18182400">
                <a:off x="1610640" y="428364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Прямоуг.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8" name="Группа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69" name="Овал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Полилиния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Полилиния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Полилиния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Полилиния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4330-30BB-4E9E-A2E9-4AC16AC3FA9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Группа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6" name="Полилиния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Полилиния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Полилиния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олилиния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Полилиния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Полилиния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DD60-781E-47FC-8DA2-4A8659F397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Группа 2"/>
          <p:cNvGrpSpPr/>
          <p:nvPr/>
        </p:nvGrpSpPr>
        <p:grpSpPr>
          <a:xfrm>
            <a:off x="-310680" y="798480"/>
            <a:ext cx="7080840" cy="6858360"/>
            <a:chOff x="-310680" y="798480"/>
            <a:chExt cx="7080840" cy="6858360"/>
          </a:xfrm>
        </p:grpSpPr>
        <p:grpSp>
          <p:nvGrpSpPr>
            <p:cNvPr id="264" name="Группа 3"/>
            <p:cNvGrpSpPr/>
            <p:nvPr/>
          </p:nvGrpSpPr>
          <p:grpSpPr>
            <a:xfrm>
              <a:off x="-310680" y="798480"/>
              <a:ext cx="7080840" cy="6858360"/>
              <a:chOff x="-310680" y="798480"/>
              <a:chExt cx="7080840" cy="6858360"/>
            </a:xfrm>
          </p:grpSpPr>
          <p:grpSp>
            <p:nvGrpSpPr>
              <p:cNvPr id="265" name="Группа 4"/>
              <p:cNvGrpSpPr/>
              <p:nvPr/>
            </p:nvGrpSpPr>
            <p:grpSpPr>
              <a:xfrm>
                <a:off x="-310680" y="798480"/>
                <a:ext cx="7080840" cy="6858360"/>
                <a:chOff x="-310680" y="798480"/>
                <a:chExt cx="7080840" cy="6858360"/>
              </a:xfrm>
            </p:grpSpPr>
            <p:sp>
              <p:nvSpPr>
                <p:cNvPr id="266" name="Полилиния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Группа 6"/>
                <p:cNvGrpSpPr/>
                <p:nvPr/>
              </p:nvGrpSpPr>
              <p:grpSpPr>
                <a:xfrm>
                  <a:off x="-310680" y="798480"/>
                  <a:ext cx="7080840" cy="6858360"/>
                  <a:chOff x="-310680" y="798480"/>
                  <a:chExt cx="7080840" cy="6858360"/>
                </a:xfrm>
              </p:grpSpPr>
              <p:sp>
                <p:nvSpPr>
                  <p:cNvPr id="268" name="Полилиния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Полилиния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Полилиния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1" name="Группа 10"/>
                  <p:cNvGrpSpPr/>
                  <p:nvPr/>
                </p:nvGrpSpPr>
                <p:grpSpPr>
                  <a:xfrm>
                    <a:off x="-310680" y="798480"/>
                    <a:ext cx="7080840" cy="6858360"/>
                    <a:chOff x="-310680" y="798480"/>
                    <a:chExt cx="7080840" cy="6858360"/>
                  </a:xfrm>
                </p:grpSpPr>
                <p:sp>
                  <p:nvSpPr>
                    <p:cNvPr id="272" name="Полилиния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3" name="Группа 166"/>
                    <p:cNvGrpSpPr/>
                    <p:nvPr/>
                  </p:nvGrpSpPr>
                  <p:grpSpPr>
                    <a:xfrm>
                      <a:off x="-310680" y="805680"/>
                      <a:ext cx="7071120" cy="6851160"/>
                      <a:chOff x="-310680" y="805680"/>
                      <a:chExt cx="7071120" cy="6851160"/>
                    </a:xfrm>
                  </p:grpSpPr>
                  <p:sp>
                    <p:nvSpPr>
                      <p:cNvPr id="274" name="Полилиния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5" name="Группа 14"/>
                      <p:cNvGrpSpPr/>
                      <p:nvPr/>
                    </p:nvGrpSpPr>
                    <p:grpSpPr>
                      <a:xfrm>
                        <a:off x="-310680" y="805680"/>
                        <a:ext cx="7071120" cy="6851160"/>
                        <a:chOff x="-310680" y="805680"/>
                        <a:chExt cx="7071120" cy="6851160"/>
                      </a:xfrm>
                    </p:grpSpPr>
                    <p:sp>
                      <p:nvSpPr>
                        <p:cNvPr id="276" name="Линия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Линия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Линия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Линия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Линия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Линия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Линия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Линия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Линия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Линия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Линия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Линия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Линия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Линия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Линия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Линия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Линия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Линия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Линия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Линия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Линия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Линия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Линия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Линия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Линия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Линия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Линия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Линия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Линия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Линия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Линия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Линия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Линия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Линия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Линия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Полилиния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2" name="Группа 51"/>
                        <p:cNvGrpSpPr/>
                        <p:nvPr/>
                      </p:nvGrpSpPr>
                      <p:grpSpPr>
                        <a:xfrm>
                          <a:off x="-310680" y="1279080"/>
                          <a:ext cx="6462720" cy="6377760"/>
                          <a:chOff x="-310680" y="1279080"/>
                          <a:chExt cx="6462720" cy="6377760"/>
                        </a:xfrm>
                      </p:grpSpPr>
                      <p:sp>
                        <p:nvSpPr>
                          <p:cNvPr id="313" name="Овал 52"/>
                          <p:cNvSpPr/>
                          <p:nvPr/>
                        </p:nvSpPr>
                        <p:spPr>
                          <a:xfrm rot="18780000">
                            <a:off x="2448360" y="451728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4" name="Овал 53"/>
                          <p:cNvSpPr/>
                          <p:nvPr/>
                        </p:nvSpPr>
                        <p:spPr>
                          <a:xfrm rot="18780000">
                            <a:off x="2357280" y="433008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5" name="Овал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6" name="Овал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Овал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Овал 57"/>
                          <p:cNvSpPr/>
                          <p:nvPr/>
                        </p:nvSpPr>
                        <p:spPr>
                          <a:xfrm rot="18780000">
                            <a:off x="1956240" y="320364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Овал 58"/>
                          <p:cNvSpPr/>
                          <p:nvPr/>
                        </p:nvSpPr>
                        <p:spPr>
                          <a:xfrm rot="18780000">
                            <a:off x="1832400" y="292284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Овал 59"/>
                          <p:cNvSpPr/>
                          <p:nvPr/>
                        </p:nvSpPr>
                        <p:spPr>
                          <a:xfrm rot="18780000">
                            <a:off x="1713960" y="266040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Овал 60"/>
                          <p:cNvSpPr/>
                          <p:nvPr/>
                        </p:nvSpPr>
                        <p:spPr>
                          <a:xfrm rot="18780000">
                            <a:off x="1581480" y="240084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Овал 61"/>
                          <p:cNvSpPr/>
                          <p:nvPr/>
                        </p:nvSpPr>
                        <p:spPr>
                          <a:xfrm rot="18780000">
                            <a:off x="1476720" y="211644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3" name="Овал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4" name="Овал 63"/>
                          <p:cNvSpPr/>
                          <p:nvPr/>
                        </p:nvSpPr>
                        <p:spPr>
                          <a:xfrm rot="18819600">
                            <a:off x="1294200" y="155304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5" name="Линия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Линия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Линия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Линия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Линия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Линия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Линия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Линия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Линия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Линия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Линия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Линия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Линия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Линия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Линия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Линия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Линия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Линия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Линия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Линия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Линия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Линия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Линия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Линия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Линия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Линия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Линия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Линия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Линия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Линия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Линия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Линия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Линия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Линия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Линия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Линия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61" name="Группа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62" name="Линия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Линия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" name="Группа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65" name="Линия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Полилиния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Линия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Линия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Линия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Линия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Линия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Линия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Линия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4" name="Группа 113"/>
            <p:cNvGrpSpPr/>
            <p:nvPr/>
          </p:nvGrpSpPr>
          <p:grpSpPr>
            <a:xfrm>
              <a:off x="1800" y="2141280"/>
              <a:ext cx="5230440" cy="4680000"/>
              <a:chOff x="1800" y="2141280"/>
              <a:chExt cx="5230440" cy="4680000"/>
            </a:xfrm>
          </p:grpSpPr>
          <p:sp>
            <p:nvSpPr>
              <p:cNvPr id="375" name="Полилиния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Полилиния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Прямоуг.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Прямоуг.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Прямоуг.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Прямоуг.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Группа 120"/>
              <p:cNvGrpSpPr/>
              <p:nvPr/>
            </p:nvGrpSpPr>
            <p:grpSpPr>
              <a:xfrm>
                <a:off x="4738320" y="2141280"/>
                <a:ext cx="493920" cy="494280"/>
                <a:chOff x="4738320" y="2141280"/>
                <a:chExt cx="493920" cy="494280"/>
              </a:xfrm>
            </p:grpSpPr>
            <p:sp>
              <p:nvSpPr>
                <p:cNvPr id="382" name="Овал 121"/>
                <p:cNvSpPr/>
                <p:nvPr/>
              </p:nvSpPr>
              <p:spPr>
                <a:xfrm rot="2828400">
                  <a:off x="475416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Полилиния 122"/>
                <p:cNvSpPr/>
                <p:nvPr/>
              </p:nvSpPr>
              <p:spPr>
                <a:xfrm>
                  <a:off x="4852440" y="2263320"/>
                  <a:ext cx="25200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Полилиния 123"/>
                <p:cNvSpPr/>
                <p:nvPr/>
              </p:nvSpPr>
              <p:spPr>
                <a:xfrm>
                  <a:off x="4935240" y="2254320"/>
                  <a:ext cx="18144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Полилиния 124"/>
                <p:cNvSpPr/>
                <p:nvPr/>
              </p:nvSpPr>
              <p:spPr>
                <a:xfrm>
                  <a:off x="4999320" y="2148840"/>
                  <a:ext cx="22752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Полилиния 125"/>
                <p:cNvSpPr/>
                <p:nvPr/>
              </p:nvSpPr>
              <p:spPr>
                <a:xfrm>
                  <a:off x="514368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5FA8-07E0-43B0-80EE-A156C0864EE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56880" y="785520"/>
            <a:ext cx="600084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eec94"/>
                </a:solidFill>
                <a:latin typeface="Arial Black"/>
              </a:rPr>
              <a:t>Солнечная активность</a:t>
            </a:r>
            <a:endParaRPr b="1" lang="en-US" sz="60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436" name="Рисунок 4" descr="febcme_sohoc2"/>
          <p:cNvPicPr/>
          <p:nvPr/>
        </p:nvPicPr>
        <p:blipFill>
          <a:blip r:embed="rId1"/>
          <a:stretch/>
        </p:blipFill>
        <p:spPr>
          <a:xfrm>
            <a:off x="2643120" y="3214800"/>
            <a:ext cx="3492720" cy="276228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Рисунок 4" descr="Сохо орбита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91600"/>
          </a:xfrm>
          <a:prstGeom prst="rect">
            <a:avLst/>
          </a:prstGeom>
          <a:ln w="0">
            <a:noFill/>
          </a:ln>
        </p:spPr>
      </p:pic>
      <p:sp>
        <p:nvSpPr>
          <p:cNvPr id="4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Рисунок 3" descr="soho траектория"/>
          <p:cNvPicPr/>
          <p:nvPr/>
        </p:nvPicPr>
        <p:blipFill>
          <a:blip r:embed="rId1"/>
          <a:stretch/>
        </p:blipFill>
        <p:spPr>
          <a:xfrm>
            <a:off x="2736720" y="189000"/>
            <a:ext cx="6156360" cy="64087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249800" cy="22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аектория космической обсерватори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5" descr="Загрузочная страница"/>
          <p:cNvPicPr/>
          <p:nvPr/>
        </p:nvPicPr>
        <p:blipFill>
          <a:blip r:embed="rId1"/>
          <a:stretch/>
        </p:blipFill>
        <p:spPr>
          <a:xfrm>
            <a:off x="1332000" y="1628640"/>
            <a:ext cx="6495840" cy="5029200"/>
          </a:xfrm>
          <a:prstGeom prst="rect">
            <a:avLst/>
          </a:prstGeom>
          <a:ln w="0">
            <a:noFill/>
          </a:ln>
        </p:spPr>
      </p:pic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7" name="Рисунок 4" descr="Станция COХ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с космической обсерватори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ступает разнообразн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разные температуры атмосферы Солнца в разных длинах вол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Рисунок 3" descr="sohoopen"/>
          <p:cNvPicPr/>
          <p:nvPr/>
        </p:nvPicPr>
        <p:blipFill>
          <a:blip r:embed="rId1"/>
          <a:stretch/>
        </p:blipFill>
        <p:spPr>
          <a:xfrm>
            <a:off x="4572000" y="2421000"/>
            <a:ext cx="4500720" cy="42829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4" descr="20041231_0100_eit_171"/>
          <p:cNvPicPr/>
          <p:nvPr/>
        </p:nvPicPr>
        <p:blipFill>
          <a:blip r:embed="rId2"/>
          <a:stretch/>
        </p:blipFill>
        <p:spPr>
          <a:xfrm>
            <a:off x="1619280" y="2565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5" descr="20041231_0106_eit_284"/>
          <p:cNvPicPr/>
          <p:nvPr/>
        </p:nvPicPr>
        <p:blipFill>
          <a:blip r:embed="rId3"/>
          <a:stretch/>
        </p:blipFill>
        <p:spPr>
          <a:xfrm>
            <a:off x="3203640" y="2565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6" descr="20041231_0119_eit_304"/>
          <p:cNvPicPr/>
          <p:nvPr/>
        </p:nvPicPr>
        <p:blipFill>
          <a:blip r:embed="rId4"/>
          <a:stretch/>
        </p:blipFill>
        <p:spPr>
          <a:xfrm>
            <a:off x="179280" y="2565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84" name="Рисунок 7" descr="20041231_0542_c3"/>
          <p:cNvPicPr/>
          <p:nvPr/>
        </p:nvPicPr>
        <p:blipFill>
          <a:blip r:embed="rId5"/>
          <a:stretch/>
        </p:blipFill>
        <p:spPr>
          <a:xfrm>
            <a:off x="25092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8" descr="20041231_0548_eit_195"/>
          <p:cNvPicPr/>
          <p:nvPr/>
        </p:nvPicPr>
        <p:blipFill>
          <a:blip r:embed="rId6"/>
          <a:stretch/>
        </p:blipFill>
        <p:spPr>
          <a:xfrm>
            <a:off x="327672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9" descr="20041231_0554_c2"/>
          <p:cNvPicPr/>
          <p:nvPr/>
        </p:nvPicPr>
        <p:blipFill>
          <a:blip r:embed="rId7"/>
          <a:stretch/>
        </p:blipFill>
        <p:spPr>
          <a:xfrm>
            <a:off x="169236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7" name="Рисунок 10" descr="20050101_1424_mdi_igr"/>
          <p:cNvPicPr/>
          <p:nvPr/>
        </p:nvPicPr>
        <p:blipFill>
          <a:blip r:embed="rId8"/>
          <a:stretch/>
        </p:blipFill>
        <p:spPr>
          <a:xfrm>
            <a:off x="1763640" y="5445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Рисунок 4" descr="Ласко"/>
          <p:cNvPicPr/>
          <p:nvPr/>
        </p:nvPicPr>
        <p:blipFill>
          <a:blip r:embed="rId1"/>
          <a:stretch/>
        </p:blipFill>
        <p:spPr>
          <a:xfrm>
            <a:off x="1174680" y="0"/>
            <a:ext cx="679464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лияние солнечной активности на биосферу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Рисунок 3" descr="268648_s"/>
          <p:cNvPicPr/>
          <p:nvPr/>
        </p:nvPicPr>
        <p:blipFill>
          <a:blip r:embed="rId1"/>
          <a:stretch/>
        </p:blipFill>
        <p:spPr>
          <a:xfrm>
            <a:off x="128520" y="2421000"/>
            <a:ext cx="3827520" cy="388764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4" descr="sunearth_01G"/>
          <p:cNvPicPr/>
          <p:nvPr/>
        </p:nvPicPr>
        <p:blipFill>
          <a:blip r:embed="rId2"/>
          <a:stretch/>
        </p:blipFill>
        <p:spPr>
          <a:xfrm>
            <a:off x="4284720" y="2421000"/>
            <a:ext cx="4819680" cy="3770280"/>
          </a:xfrm>
          <a:prstGeom prst="rect">
            <a:avLst/>
          </a:prstGeom>
          <a:ln w="0">
            <a:noFill/>
          </a:ln>
        </p:spPr>
      </p:pic>
      <p:sp>
        <p:nvSpPr>
          <p:cNvPr id="4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нные мониторинга солнечной актив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корость солнечного ве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ярные сия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еомагнитный индек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арактеристики солнечного ветра (плотность потока протонов, плотность потока электронов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ок рентгеновского излу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0" name="Рисунок 4" descr="Станция СОХ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Рисунок 2" descr="pmapN_ 17_01_1603"/>
          <p:cNvPicPr/>
          <p:nvPr/>
        </p:nvPicPr>
        <p:blipFill>
          <a:blip r:embed="rId1"/>
          <a:stretch/>
        </p:blipFill>
        <p:spPr>
          <a:xfrm>
            <a:off x="755640" y="0"/>
            <a:ext cx="7740720" cy="688032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Анализ влияния солнечной активности </a:t>
            </a:r>
            <a:br>
              <a:rPr sz="5100"/>
            </a:b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на климат Земли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0" y="2924280"/>
            <a:ext cx="91440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емля погружена во внешнюю исключительно подвижную атмосферу Солнца и, следовательно, подвергается сильному влиянию «погоды» на Солнц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смическая обсерватор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т 10 лет постоян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ниторинг активности Солнц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524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декс Вольфа за всю историю наблюдения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Рисунок 3" descr="380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пятн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Рисунок 4" descr="20031029_0136_mdi_igr"/>
          <p:cNvPicPr/>
          <p:nvPr/>
        </p:nvPicPr>
        <p:blipFill>
          <a:blip r:embed="rId1"/>
          <a:stretch/>
        </p:blipFill>
        <p:spPr>
          <a:xfrm>
            <a:off x="539640" y="270828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5" descr="20050115_1736_mdi_igr"/>
          <p:cNvPicPr/>
          <p:nvPr/>
        </p:nvPicPr>
        <p:blipFill>
          <a:blip r:embed="rId2"/>
          <a:stretch/>
        </p:blipFill>
        <p:spPr>
          <a:xfrm>
            <a:off x="4788000" y="270828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вспыш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Рисунок 4" descr="eit195"/>
          <p:cNvPicPr/>
          <p:nvPr/>
        </p:nvPicPr>
        <p:blipFill>
          <a:blip r:embed="rId1"/>
          <a:stretch/>
        </p:blipFill>
        <p:spPr>
          <a:xfrm>
            <a:off x="1258920" y="2997360"/>
            <a:ext cx="6840360" cy="34210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403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протуберанц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5" name="Рисунок 4" descr="Солнце"/>
          <p:cNvPicPr/>
          <p:nvPr/>
        </p:nvPicPr>
        <p:blipFill>
          <a:blip r:embed="rId1"/>
          <a:stretch/>
        </p:blipFill>
        <p:spPr>
          <a:xfrm>
            <a:off x="4284720" y="2190600"/>
            <a:ext cx="4859280" cy="4667400"/>
          </a:xfrm>
          <a:prstGeom prst="rect">
            <a:avLst/>
          </a:prstGeom>
          <a:ln w="0">
            <a:noFill/>
          </a:ln>
        </p:spPr>
      </p:pic>
      <p:sp>
        <p:nvSpPr>
          <p:cNvPr id="4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68680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начале 11-летнего цикла солнечной активности, после минимума W: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ятна появляются вдали от экватора Солнца, на широтах примерно 30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течение цикла зона пятен спускается до 15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максимуме и до 8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едующем минимум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лее на высотах более 30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разуются новые группы пят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Рисунок 2" descr="bfly"/>
          <p:cNvPicPr/>
          <p:nvPr/>
        </p:nvPicPr>
        <p:blipFill>
          <a:blip r:embed="rId1"/>
          <a:stretch/>
        </p:blipFill>
        <p:spPr>
          <a:xfrm>
            <a:off x="179280" y="0"/>
            <a:ext cx="8856720" cy="6877080"/>
          </a:xfrm>
          <a:prstGeom prst="rect">
            <a:avLst/>
          </a:prstGeom>
          <a:ln w="0">
            <a:noFill/>
          </a:ln>
        </p:spPr>
      </p:pic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93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космической обсерватори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H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работают различные приборы, в том числ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C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C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ормация с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H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оступает на Землю в режиме реального времен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Рисунок 7" descr="Сохо"/>
          <p:cNvPicPr/>
          <p:nvPr/>
        </p:nvPicPr>
        <p:blipFill>
          <a:blip r:embed="rId1"/>
          <a:stretch/>
        </p:blipFill>
        <p:spPr>
          <a:xfrm>
            <a:off x="468360" y="1962000"/>
            <a:ext cx="7991280" cy="4521240"/>
          </a:xfrm>
          <a:prstGeom prst="rect">
            <a:avLst/>
          </a:prstGeom>
          <a:ln w="0">
            <a:noFill/>
          </a:ln>
        </p:spPr>
      </p:pic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34:40Z</dcterms:created>
  <dc:creator>Vladimir A. Marchenko</dc:creator>
  <dc:description/>
  <dc:language>en-US</dc:language>
  <cp:lastModifiedBy>LEGION</cp:lastModifiedBy>
  <dcterms:modified xsi:type="dcterms:W3CDTF">2015-01-12T14:27:38Z</dcterms:modified>
  <cp:revision>36</cp:revision>
  <dc:subject/>
  <dc:title>Анализ влияния солнечной активности  на климат Зем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11000000000001023620</vt:lpwstr>
  </property>
</Properties>
</file>